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705-C969-48F5-88E0-027AB4DC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69BD-1673-44A4-A127-5B04C56D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6D2-DA88-41B1-BEE9-A186A665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C6F-72F8-4772-9622-8049855E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52B-021D-4704-A50D-44ACC894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1F0-F6D2-4267-A35D-752FAA95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48B-C2E6-4B88-8D31-EA9FBF32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326-98D7-44F8-B778-B2CBBD45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0E5-3F08-4CC9-AADC-5262EAB6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4A3-A487-4508-9CD0-C930CEF3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9BD-50AA-4C36-A890-72F4482A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702-515E-4D5F-AF9F-FE86D34B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89EA-2185-48CD-A4C9-462DAB65C6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4 November 201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5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8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3-08-05T08:40:52Z</dcterms:modified>
  <cp:revision>76</cp:revision>
  <dc:subject/>
  <dc:title>No Slide Title</dc:title>
</cp:coreProperties>
</file>